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0401"/>
        <c:axId val="11028784"/>
      </c:barChart>
      <c:catAx>
        <c:axId val="2040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8784"/>
        <c:crosses val="autoZero"/>
        <c:auto val="1"/>
        <c:lblAlgn val="ctr"/>
        <c:lblOffset val="100"/>
        <c:noMultiLvlLbl val="0"/>
      </c:catAx>
      <c:valAx>
        <c:axId val="11028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C55-4D52-49E5-AFC2-75B5F5FF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BD2-53F4-4569-8761-A962676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893-6752-48FD-A59D-A06E358B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5AE-D868-4DB9-A4FE-827C985B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D57-9D9D-459B-9E22-8EE32758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5BA-1DBD-4651-8FE2-0E4DE0A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21B-2D59-45D2-A44F-DBBB158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D2B-91ED-4303-85B9-B197EA8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486-5A8E-4BA7-8093-3FE432F6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8B5-57DC-4D97-AA27-B63713F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478-B95E-4C8E-BBCA-C24F8DBD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ADD-8413-4505-9F7F-A99F554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73B95-C960-4260-B3B9-600E5C1804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