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59295"/>
        <c:axId val="40622768"/>
      </c:barChart>
      <c:catAx>
        <c:axId val="50459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2768"/>
        <c:crosses val="autoZero"/>
        <c:auto val="1"/>
        <c:lblAlgn val="ctr"/>
        <c:lblOffset val="100"/>
        <c:noMultiLvlLbl val="0"/>
      </c:catAx>
      <c:valAx>
        <c:axId val="40622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9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304-FE45-4EB9-9007-91978E0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897-C6EF-45A8-AD21-4D4E538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135-77A1-4A24-83F4-D4CC3C68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E52-E387-42D6-8A6E-8369F1C6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C47-A74C-48E2-ACAA-08E119F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0C5-4196-4423-AB01-B0BE90B1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E49-9611-42DD-B806-AB1ACC5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303-CBF0-42B7-B9F1-FFD6C5C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266-4005-4637-84C5-9F517926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75C-4C78-4DD8-9793-7795859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957-53DC-4BE7-BD45-9858BC2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07E-AE34-4933-B096-D5F2B9E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FAA99-B241-4175-B318-99C612299C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