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25133"/>
        <c:axId val="58825691"/>
      </c:barChart>
      <c:catAx>
        <c:axId val="37925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25691"/>
        <c:crosses val="autoZero"/>
        <c:auto val="1"/>
        <c:lblAlgn val="ctr"/>
        <c:lblOffset val="100"/>
        <c:noMultiLvlLbl val="0"/>
      </c:catAx>
      <c:valAx>
        <c:axId val="58825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25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6C4-D996-4FA3-AE44-F1D611FC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D3C-8573-4466-BE96-30FCC64C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457-8FF4-4509-9F62-4475AFE6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0DB-954D-45E0-A6BF-B7D1C383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776-B326-4444-B6C8-62059346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41B-D6B9-4222-8C5B-FA0BDC60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F24-08F9-496D-9E97-971B0A89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043-A4ED-46F0-97F5-C1ACDEDA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8E2-A1CA-4247-A399-F7C639FF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57A-DE6D-489F-BDC8-BAA08510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838-852E-4D06-8D7D-68D0D7AB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D4D-AD77-4C84-841A-F0EBF409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60DB6-E5E9-449D-856F-B5AD4CAC44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