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247904"/>
        <c:axId val="79579690"/>
      </c:barChart>
      <c:catAx>
        <c:axId val="632479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79690"/>
        <c:crosses val="autoZero"/>
        <c:auto val="1"/>
        <c:lblAlgn val="ctr"/>
        <c:lblOffset val="100"/>
        <c:noMultiLvlLbl val="0"/>
      </c:catAx>
      <c:valAx>
        <c:axId val="795796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479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BD6D-5694-4395-A8C4-2F4F095DF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EFD3-0791-45D2-80F3-153D0398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8EA7-3BA1-4D01-A62D-5565F4563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8844-5DC4-4763-88E0-508821ED7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C7F8-4228-437F-8686-0388C9A3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D209-1CB0-46CD-98B3-032CA969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0CFD-DC61-4DDD-9480-0AE6C588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BECA-1272-4153-847E-91D6BD5E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4D21-AEEC-4A58-AFED-E9A29C2B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D376-5064-406B-8F42-391710A9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96F9-8EFD-4EE2-AFEA-57E112DA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AD89-27A7-4E53-B083-8545545D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EF258-F0BE-4B26-90F3-8293E6ECAD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