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564517"/>
        <c:axId val="3008090"/>
      </c:barChart>
      <c:catAx>
        <c:axId val="655645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8090"/>
        <c:crosses val="autoZero"/>
        <c:auto val="1"/>
        <c:lblAlgn val="ctr"/>
        <c:lblOffset val="100"/>
        <c:noMultiLvlLbl val="0"/>
      </c:catAx>
      <c:valAx>
        <c:axId val="3008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5645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041A-066D-4EC3-9476-6740374D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F884-4880-4771-ACBF-07FB9DAE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454C-A282-40D8-B682-D2302ED1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7E4F-2D2C-47FB-A212-374DA629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108D-7E5B-4190-A9E6-DC594582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DE3-99A3-4E4C-8D00-B11B79AC4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97E-455A-42F7-B647-90A57233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9F1D-DDED-4A7B-B255-DDF378C0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6990-442C-4801-9701-22AEE249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9F0B-D97D-4D01-BD93-93220811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FD7-1D42-47EF-A18C-816F2C5C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D2BC-898A-4F5A-8C30-DC2592E4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0FC3D-A7DC-49DC-844E-AB7CDBFCB6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