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8133847"/>
        <c:axId val="1935447"/>
      </c:barChart>
      <c:catAx>
        <c:axId val="4813384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935447"/>
        <c:crosses val="autoZero"/>
        <c:auto val="1"/>
        <c:lblAlgn val="ctr"/>
        <c:lblOffset val="100"/>
        <c:noMultiLvlLbl val="0"/>
      </c:catAx>
      <c:valAx>
        <c:axId val="193544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813384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C9A5C-6078-4E40-A07D-D0CF28B61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DA993-D702-49CF-9BA3-1B6272BFD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28BA8-6E84-4949-95B4-45DA93E44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2C1F7-5E85-4A0E-B1F3-EDD1E6DAA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3AB8D-659C-413B-B819-A071DD66B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7509F-D8E5-468E-86A2-0067FB01F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ACF66-0541-4E2A-A4D4-49C8BCBA8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D24EA-D294-4658-924C-642FD901D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F13E6-AFB4-47CB-8668-9D7190103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41187-ADE7-4413-BD10-C9BBAB967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AFFA5-C056-46C3-B89B-A04ADB78F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9179B-8139-4F49-899F-904C284E0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C4FCB4-B086-4C35-B227-CF0D87D0231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