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09695"/>
        <c:axId val="90364803"/>
      </c:barChart>
      <c:catAx>
        <c:axId val="56409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64803"/>
        <c:crosses val="autoZero"/>
        <c:auto val="1"/>
        <c:lblAlgn val="ctr"/>
        <c:lblOffset val="100"/>
        <c:noMultiLvlLbl val="0"/>
      </c:catAx>
      <c:valAx>
        <c:axId val="90364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9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D18-9D8E-489D-BAC4-AAF757D1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709-DFA0-4EDA-9232-9DF356A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A6B-367E-4818-B606-1C8CC640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ED4-B3A8-4F60-A28C-C7AB813E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B7E-7C77-4DCB-A305-7482ABDE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5D4-EBF6-4CD3-8D9E-CDCEF73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2AA-9B9C-411C-B88C-A10AB5BA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3F8-455F-4FA7-8B82-EEE3591B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772-CE90-476D-A577-AF79CDE6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91C-4EB5-4011-9B1F-5C543D2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923-2F7C-4BA7-9DAD-0FB246B2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DE1-19EE-4BB8-B231-F7BA6CF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7C04-4D93-4282-8B49-38E6BC3225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