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829257"/>
        <c:axId val="99458739"/>
      </c:barChart>
      <c:catAx>
        <c:axId val="63829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8739"/>
        <c:crosses val="autoZero"/>
        <c:auto val="1"/>
        <c:lblAlgn val="ctr"/>
        <c:lblOffset val="100"/>
        <c:noMultiLvlLbl val="0"/>
      </c:catAx>
      <c:valAx>
        <c:axId val="99458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829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8A0-8CBB-45BF-9898-8F547C3F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262-590E-4ACD-A444-960EB00E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2332-4D03-4834-A8FD-96703A4D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B17-44C3-43DF-83D8-F3061946E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531B-CC23-4FFB-961E-253A6C8E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846-8F74-4B11-9E77-06DC6DA7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DC8-5720-459A-A2C7-9C0B8299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37CC-5FEA-49CD-8689-AF4EF7C9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6851-B0B5-49AB-BC66-CF3B3A6C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DAD-9910-4E37-B33D-4A2BC474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8F0E-4DA2-466F-9BE7-8DA0FB57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479-7FAC-4874-B400-B908703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4DD3E-8FFD-4475-A8F6-FA12AA13EF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