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37943"/>
        <c:axId val="3432255"/>
      </c:barChart>
      <c:catAx>
        <c:axId val="1837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2255"/>
        <c:crosses val="autoZero"/>
        <c:auto val="1"/>
        <c:lblAlgn val="ctr"/>
        <c:lblOffset val="100"/>
        <c:noMultiLvlLbl val="0"/>
      </c:catAx>
      <c:valAx>
        <c:axId val="3432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7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454-0ABF-45F0-98D9-87947AAF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708-9B38-4539-9604-6A49F9DC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B321-B811-40A0-9255-FD5F453AD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98E-06CD-44F5-B077-8881457B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8048-3B3E-4791-89F1-E05FACB6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AA9-FB27-4A88-8F68-3C2ED5C1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4D60-E17D-4AE4-A531-0B1998DC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F4A8-70B6-4E84-A6B0-3DE34E78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CE3-6DB3-4C06-9655-B394C3AF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4ACD-D957-44CD-8B0E-51231AFF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E4D-B7E5-46BB-9CB9-D94F5AD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B1A-81DF-4E0D-9E7B-63201AB6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ECE21-CF26-45BD-8D80-E31D7EBF1B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