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182111"/>
        <c:axId val="42519403"/>
      </c:barChart>
      <c:catAx>
        <c:axId val="33182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19403"/>
        <c:crosses val="autoZero"/>
        <c:auto val="1"/>
        <c:lblAlgn val="ctr"/>
        <c:lblOffset val="100"/>
        <c:noMultiLvlLbl val="0"/>
      </c:catAx>
      <c:valAx>
        <c:axId val="425194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82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85C-5BCA-457A-91A9-EB04E212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8E35-76EC-4C32-8512-A2542433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85F-1A86-4479-BAB1-ACCB88A2B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911A-F5D7-4B45-8E24-7EDF4872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C60-F857-47FF-8A88-0EEC64F8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4C2-57FD-4909-B641-22046A59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E83-9292-493E-A14B-50196D86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62B2-CB8E-4701-B48C-EAA436F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8789-E358-4CA6-92C7-AD08A3B6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6D6-7ED4-4888-B43B-79633B4D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BC9-397B-43B0-90D2-273E14E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7640-BBC2-48FA-B1CA-92922683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8F641-4E8F-4A4B-9DAA-AEB14E149F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