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67812"/>
        <c:axId val="75085457"/>
      </c:barChart>
      <c:catAx>
        <c:axId val="744678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85457"/>
        <c:crosses val="autoZero"/>
        <c:auto val="1"/>
        <c:lblAlgn val="ctr"/>
        <c:lblOffset val="100"/>
        <c:noMultiLvlLbl val="0"/>
      </c:catAx>
      <c:valAx>
        <c:axId val="75085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678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F94-8DD5-43B3-8995-E518FD47D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FDB-3FA5-4C29-B9D9-44A96473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8D9-E1BE-417C-AD0E-BBC4F37A1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47F-DE23-423E-9DFB-0AFB82CA7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964A-0441-4A55-99E0-3E7C4009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64B0-50C3-4648-BF9A-A615F401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24F-0977-47AD-8551-9B9DAB39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849C-F2B3-476D-9ADF-6122ACA5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2CF-AA47-4FBC-82AD-2F5AD74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8EB2-7D4E-49FC-9E6A-D22FBF5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6AB0-B67D-46C7-8C57-A3688D11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1A7-3DEE-4920-B46C-BFB74CE29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87A77-F458-47A4-96FC-99AD68D63C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