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291013"/>
        <c:axId val="95304051"/>
      </c:barChart>
      <c:catAx>
        <c:axId val="132910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04051"/>
        <c:crosses val="autoZero"/>
        <c:auto val="1"/>
        <c:lblAlgn val="ctr"/>
        <c:lblOffset val="100"/>
        <c:noMultiLvlLbl val="0"/>
      </c:catAx>
      <c:valAx>
        <c:axId val="95304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910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D3E8-2619-4C29-9548-489DAEFD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137B-4539-4D6A-B772-9A5456CE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94AE-CD98-4436-B217-9B219309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4D05-9981-4542-8E02-0D7039B2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98FC-0364-4FBD-BD15-2C604D41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B877-8227-4F54-9AD7-9F323745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BAAD-378A-45EC-B20C-1C2858AD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FDCD-82E1-40C5-883C-AC6574DB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E1F9-4E76-47E6-8A38-E7C21742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CADB-1695-4B53-A6FC-A0B6490D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5B85-3BC9-481E-8C49-E617819F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4073-6177-46C2-8236-0585F9ED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B8619-DED6-4926-B621-E91676A2BB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