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157781"/>
        <c:axId val="7578922"/>
      </c:barChart>
      <c:catAx>
        <c:axId val="291577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78922"/>
        <c:crosses val="autoZero"/>
        <c:auto val="1"/>
        <c:lblAlgn val="ctr"/>
        <c:lblOffset val="100"/>
        <c:noMultiLvlLbl val="0"/>
      </c:catAx>
      <c:valAx>
        <c:axId val="75789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1577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0904-049C-4A19-A03D-8B6C9EB45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15DC-D2F6-48E9-B8C6-D226CD7D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6D6F-830F-4FF2-B951-5D6A194A3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88A5-2179-4D86-AFD2-607A65201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4C38-E665-47E9-8658-55DC2559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D6B3-B892-4BE3-9541-4A84D70D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E20D-11D2-45C8-B1C8-3F0C9024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076A-F30B-4F49-B24C-19848F9A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C17D-0817-4CC6-BB8E-65C8414B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5C0F-8067-4ECF-A0A7-63D90188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1C4F-0782-4938-B5A6-F844D468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4767-CFA6-4A0C-977A-60CC0577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654AF8-9634-450E-BE3F-98F3E1243F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