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7722"/>
        <c:axId val="36839638"/>
      </c:barChart>
      <c:catAx>
        <c:axId val="5239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39638"/>
        <c:crosses val="autoZero"/>
        <c:auto val="1"/>
        <c:lblAlgn val="ctr"/>
        <c:lblOffset val="100"/>
        <c:noMultiLvlLbl val="0"/>
      </c:catAx>
      <c:valAx>
        <c:axId val="36839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F44-9B86-449F-8416-AC95D249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2FF-9191-4E99-AA32-44A7B02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51E-5B75-43D9-9419-0D8DFD28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842-AB56-4637-91DA-FD80D397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4E8-5D84-4141-AD77-D067FA4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E92-94D3-4374-A2B7-4A18CFC2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363-0E32-4426-89F4-4EBEEEC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65B-EB62-47F0-AD7E-6FA179F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55D-AC6B-4A76-BDF1-20AE529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75B-7201-44D2-BBE8-38BE81F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9DC-06A9-4D97-BC7F-1D57843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A38-6311-4892-B3FE-46C0289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0A71-8A4B-49D0-A7E4-6EFDB32DC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