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21820"/>
        <c:axId val="6771064"/>
      </c:barChart>
      <c:catAx>
        <c:axId val="76821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1064"/>
        <c:crosses val="autoZero"/>
        <c:auto val="1"/>
        <c:lblAlgn val="ctr"/>
        <c:lblOffset val="100"/>
        <c:noMultiLvlLbl val="0"/>
      </c:catAx>
      <c:valAx>
        <c:axId val="6771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21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D68-847C-4659-84E1-6998ACD2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F95-0953-4B02-B1BF-E3DB4630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62E-17C6-4B4A-8071-997B2C05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8CA-1775-47EF-BB7B-17E62F1C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E88-D6B4-4DDE-8EF8-15AC95BC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894-3C6B-4563-A8A5-411C5800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644-176C-4723-B001-3BFD3035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BBA-6090-4B56-8BAE-B3E4C2DD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34B-D9D0-4B75-8568-8FAF3D70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5AF-4857-469F-A6A4-217DC097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026-6493-4BA1-9354-5D87164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C03-6BED-4754-9D16-62D377C4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9F5A6-5FD7-49AB-97FF-0A88DD5EA8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